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24.png" ContentType="image/png"/>
  <Override PartName="/ppt/media/image23.jpeg" ContentType="image/jpeg"/>
  <Override PartName="/ppt/media/image18.jpeg" ContentType="image/jpeg"/>
  <Override PartName="/ppt/media/image19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1AD6-27F8-430A-B927-EE0556821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62E9-3813-4452-A1BD-D708D0684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546E-5EBE-4D39-A54F-BEBA98770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7100-71E6-4432-A3B9-5D3B5411D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F5B8D-63F6-41CE-A1EA-CB60D5BC6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B11BD-DC85-4DEB-923C-E6528D86A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E33E2-97A1-4557-B9F4-C63B2A560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97B5E-36D1-4043-8B8A-7CDB7C4CF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FB9CA-DA32-4EE5-B465-474074F8E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E26C5-62C3-4039-9DB7-336C8F4D4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2F82B-7DD7-451E-A551-1019177F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53FB-C7A3-42D1-A9E2-B4AD5C6B8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98BE6-C4D5-4489-AAC3-5275506D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6AAF7-7363-4CD9-BACB-0BCD9CC7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F67A4-68AD-4092-9BCE-3B6BFAA13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D24BA-9672-45D9-84EB-3C9606AA8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84AC7-551B-491F-9731-C077BD90D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2E60-DDD6-40E0-B02A-63F68CF79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238E-B4BB-4626-AD61-69C1F9313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5ECB-FE3B-46D1-800A-C35D070FD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8C92-EEE5-418C-8EF3-4BD6FAF14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DC58-C0EB-4D04-95A7-E70DCB8E3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1418-D9DC-448D-A825-A14256F3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7980-4CE2-4707-9A9A-921859E5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EAB2B-E773-42EC-8727-3D1A2261284B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00382-9E71-44A2-BD62-6D62A087A5E2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16160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071360" y="4142880"/>
            <a:ext cx="670068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D:\окр. мир 4 класс\Новая папка\26.jpg"/>
          <p:cNvPicPr/>
          <p:nvPr/>
        </p:nvPicPr>
        <p:blipFill>
          <a:blip r:embed="rId1"/>
          <a:stretch/>
        </p:blipFill>
        <p:spPr>
          <a:xfrm>
            <a:off x="3995640" y="0"/>
            <a:ext cx="5148360" cy="6858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15" name=""/>
          <p:cNvSpPr txBox="1"/>
          <p:nvPr/>
        </p:nvSpPr>
        <p:spPr>
          <a:xfrm>
            <a:off x="0" y="-360"/>
            <a:ext cx="40384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лупившихся цыплят отправляют в цех выращивания. Оттуда уже подросших кур переводят в цех клеточных несушек – главный цех птицефабрики. Из него в магазины поступают сотни миллионов яиц в год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ычно птицефабрики строят возле больших городов, чтобы круглый год снабжать население яйцами и мясом. Конечно, домашних птиц разводят не только на больших птицефабриках, но и на менее крупных птицефермах и на приусадебных участках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457200" y="1599840"/>
            <a:ext cx="40384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едением рыбы в прудах занимаются специальные рыбоведческие хозяйства. Основные прудовые рыбы – это сазан, карп, белый амур, толстолобик. Сазан, белый амур и толстолобик встречаются в природе и в диком виде. А вот карп – это одомашненная форма сазан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48320" y="1599840"/>
            <a:ext cx="40384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Picture 2" descr="D:\окр. мир 4 класс\Новая папка\1303991667_karpy_00.jpg"/>
          <p:cNvPicPr/>
          <p:nvPr/>
        </p:nvPicPr>
        <p:blipFill>
          <a:blip r:embed="rId2"/>
          <a:stretch/>
        </p:blipFill>
        <p:spPr>
          <a:xfrm>
            <a:off x="4427640" y="1484280"/>
            <a:ext cx="4716360" cy="5229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алеком прошлом люди ходили за медом на охоту! В лесах тогда было очень много диких пчел. Они жили в дуплах деревьев. Найдя пчелиные жилища, люди их полностью разоряли, пчелиная семья погибала. Со временем люди стали забирать только часть меда, чтобы семья крылатых тружениц оставалась жить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ем люди стали сами выдалбливать в стволах деревьев дупла для пчел. Так зародилось пчеловодство. А потом появились и пасеки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Picture 2" descr="D:\окр. мир 4 класс\Новая папка\454a47e5fc-300x201.jpg"/>
          <p:cNvPicPr/>
          <p:nvPr/>
        </p:nvPicPr>
        <p:blipFill>
          <a:blip r:embed="rId2"/>
          <a:stretch/>
        </p:blipFill>
        <p:spPr>
          <a:xfrm>
            <a:off x="4643280" y="1557360"/>
            <a:ext cx="4105440" cy="4608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Заголовок 1" descr=""/>
          <p:cNvPicPr/>
          <p:nvPr/>
        </p:nvPicPr>
        <p:blipFill>
          <a:blip r:embed="rId1"/>
          <a:stretch/>
        </p:blipFill>
        <p:spPr>
          <a:xfrm>
            <a:off x="444600" y="182520"/>
            <a:ext cx="8375400" cy="23893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457200" y="2708280"/>
            <a:ext cx="41148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48320" y="2708280"/>
            <a:ext cx="403848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3" descr="D:\окр. мир 4 класс\Новая папка\ujmzml.jpg"/>
          <p:cNvPicPr/>
          <p:nvPr/>
        </p:nvPicPr>
        <p:blipFill>
          <a:blip r:embed="rId2"/>
          <a:stretch/>
        </p:blipFill>
        <p:spPr>
          <a:xfrm>
            <a:off x="468360" y="2708280"/>
            <a:ext cx="8280360" cy="41497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57200" y="1554120"/>
            <a:ext cx="8686800" cy="87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пасибо за внимание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5" descr=""/>
          <p:cNvPicPr/>
          <p:nvPr/>
        </p:nvPicPr>
        <p:blipFill>
          <a:blip r:embed="rId1"/>
          <a:stretch/>
        </p:blipFill>
        <p:spPr>
          <a:xfrm>
            <a:off x="237960" y="176040"/>
            <a:ext cx="8624880" cy="13179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304560" y="1412640"/>
            <a:ext cx="419076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кие кур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ели жесткое мясо, откладывали по 5-6 яиц в год. Людям удалось вывести породы кур с нежным, вкусным мясом; яйценоских кур, которые откладывают по 300 и даже больше яиц в год. Люди изменяли и других одомашненных  животных. Выведение новых пород домашних животных продолжается и сейчас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47960" y="2204640"/>
            <a:ext cx="434340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Picture 2" descr="D:\окр. мир 4 класс\Новая папка\00426155.jpg"/>
          <p:cNvPicPr/>
          <p:nvPr/>
        </p:nvPicPr>
        <p:blipFill>
          <a:blip r:embed="rId2"/>
          <a:stretch/>
        </p:blipFill>
        <p:spPr>
          <a:xfrm>
            <a:off x="4500720" y="1628640"/>
            <a:ext cx="4643280" cy="5229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4" descr=""/>
          <p:cNvPicPr/>
          <p:nvPr/>
        </p:nvPicPr>
        <p:blipFill>
          <a:blip r:embed="rId1"/>
          <a:stretch/>
        </p:blipFill>
        <p:spPr>
          <a:xfrm>
            <a:off x="298440" y="12600"/>
            <a:ext cx="8699400" cy="11098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едение крупного и мелкого рогатого скот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иноводств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тицеводство и др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ждом крае животноводство имеет свои особенности, одних животных разводят больше, других совсем не разводя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3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48320" y="1599840"/>
            <a:ext cx="403848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упный рогатый скот –это прежде всего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овы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В нашей стране разводят разные породы этих замечательных животных. Все породы делят на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лочные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ясные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ясомолочные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Picture 2" descr="D:\окр. мир 4 класс\Новая папка\wallpaper_9_50161.jpg"/>
          <p:cNvPicPr/>
          <p:nvPr/>
        </p:nvPicPr>
        <p:blipFill>
          <a:blip r:embed="rId2"/>
          <a:stretch/>
        </p:blipFill>
        <p:spPr>
          <a:xfrm>
            <a:off x="250920" y="1557360"/>
            <a:ext cx="4321080" cy="4824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лкий рогатый скот это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вцы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зы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Очень ценятся породы овец с тонкой шерстью –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нкорунные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i="1" lang="ru-RU" sz="1800" spc="-1" strike="noStrike">
                <a:solidFill>
                  <a:srgbClr val="1a1a1b"/>
                </a:solidFill>
                <a:latin typeface="Times New Roman"/>
                <a:ea typeface="Times New Roman"/>
              </a:rPr>
              <a:t>от слова </a:t>
            </a:r>
            <a:r>
              <a:rPr b="1" i="1" lang="ru-RU" sz="1800" spc="-1" strike="noStrike">
                <a:solidFill>
                  <a:srgbClr val="1a1a1b"/>
                </a:solidFill>
                <a:latin typeface="Times New Roman"/>
                <a:ea typeface="Times New Roman"/>
              </a:rPr>
              <a:t>руно</a:t>
            </a:r>
            <a:r>
              <a:rPr b="0" i="1" lang="ru-RU" sz="1800" spc="-1" strike="noStrike">
                <a:solidFill>
                  <a:srgbClr val="1a1a1b"/>
                </a:solidFill>
                <a:latin typeface="Times New Roman"/>
                <a:ea typeface="Times New Roman"/>
              </a:rPr>
              <a:t> – шерсть овцы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.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 их шерсти на фабриках делают лучшие шерстяные ткани. Стада овец называют отарами. Большие отара пасутся на степных, полупустынных и горных пастбищах. Коз разводят ради питательного молока, шерсти и очень тонкого, мягкого, шелковистого пуха. Из козьего пуха изготовляют платки и другие издел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Picture 4" descr="D:\окр. мир 4 класс\Новая папка\2010-11-15_11-25-22_14740730.png"/>
          <p:cNvPicPr/>
          <p:nvPr/>
        </p:nvPicPr>
        <p:blipFill>
          <a:blip r:embed="rId2"/>
          <a:stretch/>
        </p:blipFill>
        <p:spPr>
          <a:xfrm>
            <a:off x="3143160" y="4000680"/>
            <a:ext cx="2940120" cy="21430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3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иньи совсем не грязнули, они, наоборот, очень чистоплотны. Тот, кто видел, как в жару свинья ложится в грязь, должен знать: она делает это для того, чтобы охладить кожу и избавиться от надоедливых насекомых. Свиней нужно почаще мыть и чистить. Содержать их нужно в чистых помещениях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нашей стране более десятка пород свиней. Самая распространенная порода –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упная белая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В Сибири разводят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емеровскую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роду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Picture 2" descr="D:\окр. мир 4 класс\Новая папка\поросята.jpg"/>
          <p:cNvPicPr/>
          <p:nvPr/>
        </p:nvPicPr>
        <p:blipFill>
          <a:blip r:embed="rId2"/>
          <a:stretch/>
        </p:blipFill>
        <p:spPr>
          <a:xfrm>
            <a:off x="324000" y="1557360"/>
            <a:ext cx="4249440" cy="489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57200" y="1341000"/>
            <a:ext cx="4038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прошлом лошадь была незаменимой помощницей человека. Она помогала крестьянину в поле, когда не было тракторов. Она перевозила людей и грузы, потому что не было автомобилей. Лошадь участвовала и в военных битвах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временная техника во многих делах заменила лошадь. Во многих, но не во всех. Лошадь по-прежнему необходима лесникам, пастухам, пограничникам. В селе на лошадях удобно перевозить грузы на небольшие расстояния. Немало людей увлекаются конным туризмом и конным спортом. Конечно, люди не перестают восхищаться красотой лошадей. Общаясь с лошадью, человек учится понимать живое, учится доброт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родистых лошадей разводят на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конных заводах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Лошадей большое разнообразие. Их насчитывают свыше 250 пород – от могучих тяжеловозов до миниатюрных пон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2" descr="D:\окр. мир 4 класс\Новая папка\horses0630.jpg"/>
          <p:cNvPicPr/>
          <p:nvPr/>
        </p:nvPicPr>
        <p:blipFill>
          <a:blip r:embed="rId2"/>
          <a:stretch/>
        </p:blipFill>
        <p:spPr>
          <a:xfrm>
            <a:off x="4643280" y="1413000"/>
            <a:ext cx="4392720" cy="51847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076720" y="1600200"/>
            <a:ext cx="3610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машние кролики произошли от диких. Выведено более 60 пород домашних кроликов. Кроликов разводят ради теплого, красивого меха, легкого пуха и вкусного мяс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держат кроликов в клетках. Кормят кроликов разнообразной пищей. Им дают: зеленую траву, сено, корнеплоды, зерно, картофель, листья капусты, ботву моркови и свёклы.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олики охотно едят многие травы: одуванчик, люцерну, подорожник, клевер, тимофеевку. Нельзя им давать траву, влажную от росы или дождя. От этого кролики могут опасно заболеть. Такую траву надо прежде просушить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Picture 2" descr="D:\окр. мир 4 класс\Новая папка\60146-8973c-31184749-.jpg"/>
          <p:cNvPicPr/>
          <p:nvPr/>
        </p:nvPicPr>
        <p:blipFill>
          <a:blip r:embed="rId2"/>
          <a:stretch/>
        </p:blipFill>
        <p:spPr>
          <a:xfrm>
            <a:off x="250920" y="1557360"/>
            <a:ext cx="4681440" cy="5040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304560" y="1125360"/>
            <a:ext cx="4190760" cy="51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машние птицы – это </a:t>
            </a:r>
            <a:r>
              <a:rPr b="1" i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ры, гуси, утки, индейки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Особенно много разводят кур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47960" y="1125360"/>
            <a:ext cx="4343400" cy="51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крупной птицефабрике в инкубаторы помещают одновременно сотни тысяч яиц. Вентиляторы подают в инкубатор теплый воздух. Специальный механизм время от времени переворачивает яйца, чтобы они равномерно прогревались. Все это необходимо для правильного развития зародыш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Picture 4" descr="D:\окр. мир 4 класс\Новая папка\repphoto_3407_3943.jpg"/>
          <p:cNvPicPr/>
          <p:nvPr/>
        </p:nvPicPr>
        <p:blipFill>
          <a:blip r:embed="rId2"/>
          <a:stretch/>
        </p:blipFill>
        <p:spPr>
          <a:xfrm>
            <a:off x="0" y="4076640"/>
            <a:ext cx="4356000" cy="2781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13" name="Picture 5" descr="D:\окр. мир 4 класс\Новая папка\1267212955.jpg"/>
          <p:cNvPicPr/>
          <p:nvPr/>
        </p:nvPicPr>
        <p:blipFill>
          <a:blip r:embed="rId3"/>
          <a:stretch/>
        </p:blipFill>
        <p:spPr>
          <a:xfrm>
            <a:off x="5076720" y="4076640"/>
            <a:ext cx="4067280" cy="2781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1T14:18:48Z</dcterms:created>
  <dc:creator>Discus</dc:creator>
  <dc:description/>
  <dc:language>en-US</dc:language>
  <cp:lastModifiedBy>Учитель</cp:lastModifiedBy>
  <dcterms:modified xsi:type="dcterms:W3CDTF">2013-05-07T09:49:21Z</dcterms:modified>
  <cp:revision>81</cp:revision>
  <dc:subject/>
  <dc:title>Животноводство в нашем крае</dc:title>
</cp:coreProperties>
</file>